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28.xml" ContentType="application/vnd.openxmlformats-officedocument.theme+xml"/>
  <Override PartName="/ppt/theme/theme64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65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</p:sldMasterIdLst>
  <p:notesMasterIdLst>
    <p:notesMasterId r:id="rId66"/>
  </p:notesMasterIdLst>
  <p:sldIdLst>
    <p:sldId id="256" r:id="rId67"/>
    <p:sldId id="257" r:id="rId68"/>
    <p:sldId id="258" r:id="rId69"/>
    <p:sldId id="259" r:id="rId70"/>
    <p:sldId id="260" r:id="rId71"/>
    <p:sldId id="261" r:id="rId72"/>
    <p:sldId id="262" r:id="rId73"/>
    <p:sldId id="263" r:id="rId74"/>
    <p:sldId id="264" r:id="rId75"/>
    <p:sldId id="265" r:id="rId76"/>
    <p:sldId id="266" r:id="rId77"/>
    <p:sldId id="267" r:id="rId78"/>
    <p:sldId id="268" r:id="rId79"/>
    <p:sldId id="269" r:id="rId8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notesMaster" Target="notesMasters/notesMaster1.xml"/><Relationship Id="rId67" Type="http://schemas.openxmlformats.org/officeDocument/2006/relationships/slide" Target="slides/slide1.xml"/><Relationship Id="rId68" Type="http://schemas.openxmlformats.org/officeDocument/2006/relationships/slide" Target="slides/slide2.xml"/><Relationship Id="rId69" Type="http://schemas.openxmlformats.org/officeDocument/2006/relationships/slide" Target="slides/slide3.xml"/><Relationship Id="rId70" Type="http://schemas.openxmlformats.org/officeDocument/2006/relationships/slide" Target="slides/slide4.xml"/><Relationship Id="rId71" Type="http://schemas.openxmlformats.org/officeDocument/2006/relationships/slide" Target="slides/slide5.xml"/><Relationship Id="rId72" Type="http://schemas.openxmlformats.org/officeDocument/2006/relationships/slide" Target="slides/slide6.xml"/><Relationship Id="rId73" Type="http://schemas.openxmlformats.org/officeDocument/2006/relationships/slide" Target="slides/slide7.xml"/><Relationship Id="rId74" Type="http://schemas.openxmlformats.org/officeDocument/2006/relationships/slide" Target="slides/slide8.xml"/><Relationship Id="rId75" Type="http://schemas.openxmlformats.org/officeDocument/2006/relationships/slide" Target="slides/slide9.xml"/><Relationship Id="rId76" Type="http://schemas.openxmlformats.org/officeDocument/2006/relationships/slide" Target="slides/slide10.xml"/><Relationship Id="rId77" Type="http://schemas.openxmlformats.org/officeDocument/2006/relationships/slide" Target="slides/slide11.xml"/><Relationship Id="rId78" Type="http://schemas.openxmlformats.org/officeDocument/2006/relationships/slide" Target="slides/slide12.xml"/><Relationship Id="rId79" Type="http://schemas.openxmlformats.org/officeDocument/2006/relationships/slide" Target="slides/slide13.xml"/><Relationship Id="rId80" Type="http://schemas.openxmlformats.org/officeDocument/2006/relationships/slide" Target="slides/slide14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6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 type="dt" idx="41"/>
          </p:nvPr>
        </p:nvSpPr>
        <p:spPr>
          <a:xfrm>
            <a:off x="3851280" y="0"/>
            <a:ext cx="2936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 type="sldImg"/>
          </p:nvPr>
        </p:nvSpPr>
        <p:spPr>
          <a:xfrm>
            <a:off x="920520" y="744480"/>
            <a:ext cx="494964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move the slide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2772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 type="ftr" idx="42"/>
          </p:nvPr>
        </p:nvSpPr>
        <p:spPr>
          <a:xfrm>
            <a:off x="0" y="9428040"/>
            <a:ext cx="2936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6"/>
          <p:cNvSpPr>
            <a:spLocks noGrp="1"/>
          </p:cNvSpPr>
          <p:nvPr>
            <p:ph type="sldNum" idx="43"/>
          </p:nvPr>
        </p:nvSpPr>
        <p:spPr>
          <a:xfrm>
            <a:off x="3851280" y="9428040"/>
            <a:ext cx="2936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1444680"/>
                <a:tab algn="l" pos="2168640"/>
                <a:tab algn="l" pos="2890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1444680"/>
                <a:tab algn="l" pos="2168640"/>
                <a:tab algn="l" pos="2890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BDA7E-DF47-45B6-9466-8D1E392A725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Rectangle 12"/>
          <p:cNvSpPr/>
          <p:nvPr/>
        </p:nvSpPr>
        <p:spPr>
          <a:xfrm>
            <a:off x="3851280" y="94280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8640"/>
                <a:tab algn="l" pos="2890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BD1D8-4725-4F38-8486-28DA87A4F63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Text Box 1"/>
          <p:cNvSpPr/>
          <p:nvPr/>
        </p:nvSpPr>
        <p:spPr>
          <a:xfrm>
            <a:off x="91908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1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291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Rectangle 12"/>
          <p:cNvSpPr/>
          <p:nvPr/>
        </p:nvSpPr>
        <p:spPr>
          <a:xfrm>
            <a:off x="3851280" y="94280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8640"/>
                <a:tab algn="l" pos="2890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D6864-5FCB-41B7-82D9-41687680BDE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Text Box 1"/>
          <p:cNvSpPr/>
          <p:nvPr/>
        </p:nvSpPr>
        <p:spPr>
          <a:xfrm>
            <a:off x="919080" y="744480"/>
            <a:ext cx="496404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PlaceHolder 1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291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2D8B-A8A8-4651-8853-C6988F2F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40A9-644F-4995-8DBD-DA440076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5AD9-10A5-4502-B97E-71F25496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E570-8A6C-4FAF-BCBC-72E75DA8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CEF2-0DC1-4076-A610-0DEA87F9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A1EB-469A-4D0A-80F3-8786674D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2186-DE07-45C1-981B-6C75A778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F331-16A8-4447-9E20-5E2D9A87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DDCA-5E99-4F81-B387-641FDA52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42E3-9DF5-41E0-AEB5-9940DB0A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8BF5-51AD-4ED0-8773-AFDA86C1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6365-BA19-4DEB-AFCF-1B815298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40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41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78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79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CFF-AD97-4E3E-BEAD-5185587F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259-8234-495D-9430-E025E05E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11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12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17A-933D-4028-BE1B-5BDF12F7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48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49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459-8DF6-4D97-BF22-102F571A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85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86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437-F3D8-4909-98CE-C54EFF32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EC3-834E-4AA1-B2E0-768769E4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6F5-8726-4C55-AFF3-D68B39DA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602-A911-43D3-8D99-38D95254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90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96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97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B25-E6EC-4A3C-ABAF-B8A72DB4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33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34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D84-D091-4F4E-873F-0909F2A8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70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71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E0A-D362-4F98-8EEC-FBF5DA4B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793-261F-4124-A20A-366C3F77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07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08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38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43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44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45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82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17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18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19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561F77-9A3F-425D-81BA-3FAD9430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FE66E-82E6-4458-85D0-99ABB2E6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F90D8F-9F73-4BAB-BF53-3B65FED9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8BCBF0-D8C1-4E87-A17A-22AC8D15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B668A1-E652-42AF-805C-3D8027E7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AFA4EB-4F66-46B4-950D-1524ECA0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25B937-0C25-43F4-B496-670D2708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4F706B-64DD-4161-8C24-BBC1F262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F8B24-E554-4B70-B8E1-9193B4A7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C48AA-A302-46E5-86E8-F688F5BA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2725E-90DE-42A0-AB19-D4F353BB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59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60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7E35A4-0437-4CF6-A4F7-13100CD2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1F28BC-59F5-4F38-B298-930B6867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A5F739-56D3-4336-B969-C2F150D0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0BE7C4-CBC9-45DE-8349-9ED42A28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05DCB0-888D-4A3A-A44B-A4D27482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42994A-57DD-44B8-909E-5A935DC7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C8CA97-CF1A-458E-8B69-D0DF5AEA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B99A82-EF98-43A7-BA05-F2931A57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56FBDC-9655-4D24-B777-EC0D1AEC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021BD5-2030-4E03-905B-5FB5A3CD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F98BC0-5FFD-4797-B97F-E1DB54C9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47F30F-0FB7-41F1-AB2D-F3EF9C89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00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01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184197-C0EF-4E66-B3F3-4B64941C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C21120-0E34-4496-864B-F3C36723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47C124-82BA-492A-8120-2538D336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6A42BF-7692-41EA-8EC3-23224694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AAE7E9-E34E-4A84-B31C-F919C9AC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3EDAF0-94B9-48DD-AF2D-9F4C5A08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B304C4-6713-45C7-A7E5-723F431F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3C5971-AF69-4865-BB92-1570963A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04C872-79AC-44CF-AB1B-57E15B86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ACC78D-00FA-4022-9388-517FCD15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416C4E-49FC-43D1-AA12-8863F5BC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589A63-D416-4AD9-8AE7-CD23A6F0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41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42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1D9003-4D66-45AC-93B4-C31D9562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99488F-E5B7-4075-9E57-1B7D58A6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A6D57A-96D9-46EC-B830-D5C80C0C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3AFD13-B771-4560-987B-D2813659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7F5056-A175-4012-8202-A540D7E8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892C32-B61F-46E1-A3CA-CBC790BE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925D08-1FEF-4CE4-9F49-DD5CF344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FF6B1E-F154-4EE2-8701-4B21B57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05E126-C9FD-4D3E-A9BC-38454617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00735B-FAB0-4D15-B4DB-73E6B801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555900-CBD7-4244-89CE-4D880E8F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37A0B1-CA0A-47B8-BE6C-E7851624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81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82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83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DC7590-1222-48B2-8874-E9F19892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EB59A0-BE98-4DD1-8E89-EE4B5111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DC5341-1912-4305-A7A3-06FFCAED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B6D583-65DC-4800-B7E8-E51F7B1A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61803F-8A4A-4775-B263-2B33C714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04347B-3455-4CBE-9F56-F036915E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11AED1-549A-4DB3-BC1C-36C4433F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CC8D90-0D23-4F0B-BFDF-9C0CBA7D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2AF88B-1CC8-4337-8551-472CAB64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EAE2C4-3BBF-4E99-AC5F-A05A67DB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8D258B-6953-4374-8644-8A17D010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4384AC-04F5-4A41-BBB1-B342EAA8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22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23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24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AB274B-C0DC-4EF8-B69F-04273563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FD496-2D0C-41D4-B6FB-C2F379A7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F6732-3EA0-4111-8C05-8D10AE39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F59CC-B5F5-4E4D-9F10-9D59D19A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F6E8A-ED4F-4153-84D6-C9C32C78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4D777-21D1-4E82-95FD-EDDB7D26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11146-B55C-4288-970C-F7AE0EEE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4ACD1-2E41-432D-94BC-D6E19C4B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50D4D-3915-4454-BE9A-5B7E605B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A525B-C40F-4970-837B-2C51F40D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BD82C-2412-44E2-B427-82BDEDD7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DB9D8-97AF-425C-AFC7-A94BFED6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64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65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19962-414E-47CD-96CB-15A360AB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F4DB7-D4DD-4A26-97F9-01A19036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B57FF-DB5F-465E-A72C-9EFD5D4D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74328-C9D3-49A9-B1B4-73FB8241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2B227-01A5-4FF8-A470-42DE8CD4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1BA9C-6F22-4354-9880-AF2E3F73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AAD51-7366-4B61-AFA3-9624970A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178C3-502F-4B2E-A84A-273EBDEE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E842A-0EA5-45CC-9148-CD78889F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03BBA4-82D4-4269-A087-0731B62B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F1159-35EE-4478-8AC0-5CE88B12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99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B3A8D3-B3EA-4FFC-A6EB-39499EB0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05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06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E2ABB-374F-4841-AEBA-98749D6D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BBE188-E0E9-4810-88B3-91C3942E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1A2D69-5CD1-4F96-B668-3C5C0CF7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5D4BB5-6A6D-4223-B987-B84B9276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B65A6D-5004-4C63-8A63-CF734489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377249-BF16-4447-8156-F4065D97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C1FB1A-E5DD-4416-8D73-83DD22CB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7D433B-4AE0-446C-86B9-8A511FEE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4A6AE1-CE83-4A8F-BFDB-98B7F824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53C624-2238-48F5-845B-8FDC66A8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2546AD-C941-490B-93B3-93279BB0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B22A39-37DB-4B8D-817F-AAE56415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45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46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47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00D728-EAAF-43BD-9E60-A7A3E624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E31B3-98BE-4ABA-9799-EAFDA9FD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445E9-96F9-4A49-8D81-45729849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3BF25-7A95-4063-B21B-9D458586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CFB01-D794-493B-9F2D-B65E09FA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1CD0E-58BB-4E42-98FA-7E6179E3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465FA-D423-49E2-B2AF-4759692F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8D25C-5794-4B35-A5EF-2E2DFC68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3D251-B906-4070-A5F3-0B01F1CC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B7993-837A-40F9-966A-697A1CE7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030DD1-AFA4-489F-BF94-06F98B39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8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81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0D66C-4676-4EB8-92C2-2EA37D45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87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88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4BEE25-14B9-46F1-A3A2-C240E93E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C64ABD-D06E-4D3C-9EAE-C24CDA77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2A4A97-209B-41FB-85CB-E959955A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7E66AF-0CBD-4240-8579-979A0F67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493F2C-4D98-4E1E-961D-90CE7756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2A65B6-78E3-4BD5-9869-588FBA4E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56C85F-47A6-4E6B-98C9-0132689F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6C89C8-B4F4-4D68-8BC8-0BD27461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9B2209-BB49-4D95-84C0-5EF968C4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DBA4EE-76B4-41A5-BBE5-AE5B20BB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65B995-5901-499E-9FF2-96DFAF27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22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0E4D15-FBDA-41C6-A957-1DCF4037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28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29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58466A-184A-4B88-9F29-8E480DD3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CA541B-C3BA-4D11-B8CF-97FF4AB0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025DAA-F8CF-4F46-A226-4B598BFE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292193-3B26-4EEE-B86D-23DCECCB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0DCBFD1-0529-41F3-8A06-BC7F9A6D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89A10B-EBD9-48C0-9BA7-C63E5C97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D08A2E-E935-4400-A95E-F3A6A340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227CBF8-6CB6-4E5E-92B4-50627BD3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A6A17E-AC63-430A-B213-48205F5E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470F37-5B09-4DF7-904F-AC9971C6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595979D-3732-4644-AF8A-94ADB5A6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63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DA4B6C-447C-4F9B-B9B5-6481A527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69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70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DFC6C4-7DF8-4300-ADC6-3C2215F4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2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shpDatum" descr="RO__vervolgpagina~LPPT.png"/>
          <p:cNvPicPr/>
          <p:nvPr/>
        </p:nvPicPr>
        <p:blipFill>
          <a:blip r:embed="rId3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492E72-D27E-4CE0-AE75-CAB20BECF3A6}" type="datetime3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0 juli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5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ogius, dienst digitale 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6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D7C285-F757-4EFB-8A7E-031254FA4DD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0" name="Picture 1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71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2" name="Picture 12" descr="2612"/>
          <p:cNvPicPr/>
          <p:nvPr/>
        </p:nvPicPr>
        <p:blipFill>
          <a:blip r:embed="rId3"/>
          <a:stretch/>
        </p:blipFill>
        <p:spPr>
          <a:xfrm>
            <a:off x="0" y="0"/>
            <a:ext cx="4581360" cy="6885000"/>
          </a:xfrm>
          <a:prstGeom prst="rect">
            <a:avLst/>
          </a:prstGeom>
          <a:ln w="0">
            <a:noFill/>
          </a:ln>
        </p:spPr>
      </p:pic>
      <p:pic>
        <p:nvPicPr>
          <p:cNvPr id="1573" name="Picture 11" descr="RO_BZK_LG_Logo_Powerpoint_diap_nl"/>
          <p:cNvPicPr/>
          <p:nvPr/>
        </p:nvPicPr>
        <p:blipFill>
          <a:blip r:embed="rId4"/>
          <a:stretch/>
        </p:blipFill>
        <p:spPr>
          <a:xfrm>
            <a:off x="0" y="0"/>
            <a:ext cx="9144000" cy="2001960"/>
          </a:xfrm>
          <a:prstGeom prst="rect">
            <a:avLst/>
          </a:prstGeom>
          <a:ln w="0">
            <a:noFill/>
          </a:ln>
        </p:spPr>
      </p:pic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 type="dt" idx="7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F284FA-245C-46B1-B87F-100781A0A97E}" type="datetime3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0 juli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3B217F-688E-4EE9-8CF2-274A8609CD6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 type="ftr" idx="9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691A84-94F9-46D0-A9E1-D71B143B0CC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 type="dt" idx="1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 type="ftr" idx="1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3C60B9F-D19F-4D8E-884B-1A147E62BB2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 type="ftr" idx="15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2431EA-1FF8-4737-909B-24488EB8DDE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 type="dt" idx="17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 type="ftr" idx="18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8144239-1A00-431E-9D7E-BC81B2412CD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 type="ftr" idx="21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BF2149-7838-4FF9-9CA7-7C008DAE5D1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 type="dt" idx="23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 type="ftr" idx="24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B156007-A54F-41B6-891C-CC97855E775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 type="ftr" idx="27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D03363-6CF5-4E93-AAE0-775FED1E516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 type="dt" idx="29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4"/>
          <p:cNvSpPr>
            <a:spLocks noGrp="1"/>
          </p:cNvSpPr>
          <p:nvPr>
            <p:ph type="ftr" idx="30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6EE0015-97D8-43E5-A6D3-9DED2E6BDB3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 type="dt" idx="32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 type="ftr" idx="33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A7637B-0F68-4730-A2ED-49CBA1563ED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 type="dt" idx="35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PlaceHolder 4"/>
          <p:cNvSpPr>
            <a:spLocks noGrp="1"/>
          </p:cNvSpPr>
          <p:nvPr>
            <p:ph type="ftr" idx="36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44844F-204B-4512-A882-FC36343DE3E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 type="dt" idx="38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PlaceHolder 4"/>
          <p:cNvSpPr>
            <a:spLocks noGrp="1"/>
          </p:cNvSpPr>
          <p:nvPr>
            <p:ph type="ftr" idx="39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5444E10-08C7-43C5-A5EA-A2745D053A4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ogius/toegang/" TargetMode="External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shpDatum"/>
          <p:cNvSpPr/>
          <p:nvPr/>
        </p:nvSpPr>
        <p:spPr>
          <a:xfrm>
            <a:off x="492912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FB76BF-AE3C-42A0-A9D0-A64F6A74BEFF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929120" y="2657160"/>
            <a:ext cx="4035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ijnOverheid - Lopende Zake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UF-conforme koppelvlak </a:t>
            </a:r>
            <a:endParaRPr b="1" lang="en-US" sz="20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4943520" y="4246200"/>
            <a:ext cx="395136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StUF-Regiegroep KING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Logius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6 febr 2013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111F1A-F5CE-4521-9AF7-456B6200460F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C06794-540C-4F49-A05A-33A4D2E99B04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StUF-conformiteit LZ-bericht MO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3534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Naast MO-zaakbericht definitie nu dus een 2</a:t>
            </a:r>
            <a:r>
              <a:rPr b="0" lang="nl-NL" sz="2000" spc="-1" strike="noStrike" baseline="30000">
                <a:solidFill>
                  <a:srgbClr val="020048"/>
                </a:solidFill>
                <a:latin typeface="Verdana"/>
              </a:rPr>
              <a:t>e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 berichtspecificatie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Het is een generiek ZakLk01 kennisgevingsbericht (StUF ZKN) schema’s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Enkele aanvullende eisen van MO als toevoeging daarin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  <p:pic>
        <p:nvPicPr>
          <p:cNvPr id="2526" name="Picture 7" descr=""/>
          <p:cNvPicPr/>
          <p:nvPr/>
        </p:nvPicPr>
        <p:blipFill>
          <a:blip r:embed="rId1"/>
          <a:stretch/>
        </p:blipFill>
        <p:spPr>
          <a:xfrm>
            <a:off x="695160" y="2997360"/>
            <a:ext cx="8269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8BAA2A-E1F8-4637-B8E7-C0FC772831AB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B0F1F4-4AF3-4B6D-B011-7FFA62D5480D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StUF-conformiteit LZ-bericht MO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588600" y="1916280"/>
            <a:ext cx="806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  <p:pic>
        <p:nvPicPr>
          <p:cNvPr id="2532" name="Picture 2" descr=""/>
          <p:cNvPicPr/>
          <p:nvPr/>
        </p:nvPicPr>
        <p:blipFill>
          <a:blip r:embed="rId1"/>
          <a:stretch/>
        </p:blipFill>
        <p:spPr>
          <a:xfrm>
            <a:off x="0" y="1844640"/>
            <a:ext cx="8964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8A4EDD-272A-4283-A329-150D1FD4FBCD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29E085-A9C6-4499-A34B-6067A419BBA9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Totstandkoming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6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Inspiratie: Waarderingskamer en KING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Opdracht: wijzigingsverzoek akkoord met Afnemersoverleg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Uitvoering: in afstemming met KING (Jan Brinkkemper)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020048"/>
                </a:solidFill>
                <a:latin typeface="Verdana"/>
              </a:rPr>
              <a:t>Aug/sept: ontwerp StUF-bericht LZ &amp; leveranciers consultatie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020048"/>
                </a:solidFill>
                <a:latin typeface="Verdana"/>
              </a:rPr>
              <a:t>Okt: verwerking commentaar; ontwerp vastgesteld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020048"/>
                </a:solidFill>
                <a:latin typeface="Verdana"/>
              </a:rPr>
              <a:t>Nov: realisatie in code MO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020048"/>
                </a:solidFill>
                <a:latin typeface="Verdana"/>
              </a:rPr>
              <a:t>Dec: testen op toetsomgeving van werking 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020048"/>
                </a:solidFill>
                <a:latin typeface="Verdana"/>
              </a:rPr>
              <a:t>Jan/febr: Review KING Expert  &amp; in productie in R 1.14b (6 febr)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020048"/>
                </a:solidFill>
                <a:latin typeface="Verdana"/>
              </a:rPr>
              <a:t>Febr/mrt: productieaansluiting (Breda); 1</a:t>
            </a:r>
            <a:r>
              <a:rPr b="0" lang="nl-NL" sz="1600" spc="-1" strike="noStrike" baseline="30000">
                <a:solidFill>
                  <a:srgbClr val="020048"/>
                </a:solidFill>
                <a:latin typeface="Verdana"/>
              </a:rPr>
              <a:t>e</a:t>
            </a:r>
            <a:r>
              <a:rPr b="0" lang="nl-NL" sz="1600" spc="-1" strike="noStrike">
                <a:solidFill>
                  <a:srgbClr val="020048"/>
                </a:solidFill>
                <a:latin typeface="Verdana"/>
              </a:rPr>
              <a:t> praktijik leercurve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6489C9-8C4C-4590-B780-0406065B65EC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A1B337-0315-4663-AA2E-B49F31030148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Beheer en onderhoud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588600" y="1916280"/>
            <a:ext cx="806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Berichtdefinitie is deel van specs Release X MijnOverheid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Wijzigingen: op basis van advies Afnemersoverleg MO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Correctief onderhoud: correcties die functionaliteit niet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raken; bijv. uit 1</a:t>
            </a:r>
            <a:r>
              <a:rPr b="0" lang="nl-NL" sz="2000" spc="-1" strike="noStrike" baseline="30000">
                <a:solidFill>
                  <a:srgbClr val="020048"/>
                </a:solidFill>
                <a:latin typeface="Verdana"/>
              </a:rPr>
              <a:t>e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 praktijkaansluiting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Documentatie: in kader van aansluitproces opvraagbaar 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via website Logius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Publicatie in standaardenregister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A6C106-1A9F-4325-8401-75981CD54AEA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445920-90D1-488A-8281-F7A32CB5287F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Aansluiting 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06112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020048"/>
                </a:solidFill>
                <a:latin typeface="Verdana"/>
              </a:rPr>
              <a:t>Intentie verklaring 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  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Melding voornemen, ondertekend, met geplande datum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020048"/>
                </a:solidFill>
                <a:latin typeface="Verdana"/>
              </a:rPr>
              <a:t>Formele start koppeling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Aanvraagformulier MO: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logius/toegang/MO/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020048"/>
                </a:solidFill>
                <a:latin typeface="Verdana"/>
              </a:rPr>
              <a:t>Documentatie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Handleiding Aansluiting Lopende Zaken MijnOverheid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Koppelvlakspecificaties Lopende Zaken MijnOverheid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Technische Bestanden (XSD) LZ èn ProfielService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Testrapport/plan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Handreiking connectiviteit  (na aanvraagformulier)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6DAB09-AB56-40FA-9750-614B1168185C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188A6D-43A0-4CDC-AE7C-E82EFCEF84E0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agenda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588600" y="2352600"/>
            <a:ext cx="806148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MijnOverheid in vogelvlucht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Lopende Zaken: werking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StUF-conformiteit: 2</a:t>
            </a:r>
            <a:r>
              <a:rPr b="0" lang="nl-NL" sz="2000" spc="-1" strike="noStrike" baseline="30000">
                <a:solidFill>
                  <a:srgbClr val="020048"/>
                </a:solidFill>
                <a:latin typeface="Verdana"/>
              </a:rPr>
              <a:t>e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 type zaakbericht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Totstandkoming berichtdefinitie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Beheer en onderhoud / rol Logius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CDA229-3E15-43CE-A730-37CA874EC2CA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117162-10E9-437B-AD88-449DF610FB91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MijnOverheid in vogelvlucht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588600" y="1989000"/>
            <a:ext cx="8061480" cy="41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=&gt;MijnOverheid beoogt: een burger overzicht te geven van 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zijn zaken, correspondentie en eigen gegevens van en bij 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overheden (digitaal, daar waar internet beschikbaar is).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=&gt;MijnOverheid kent 3 kernfuncties: 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Berichtenbox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Inzage Persoonsgegevens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Lopende Zaken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=&gt; ‘Producteigenaar’: Bestuurlijk Overleg (FIN/BD = vz)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7" name="Picture 4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219176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1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9AE2F2-3A59-4DC8-A17C-0B66B5094ABA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587A02-AD43-4938-8551-3383F0E42969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Lopende Zaken: gebruik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588600" y="1916280"/>
            <a:ext cx="806148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6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54 aangesloten partijen (ca. 8 leveranciers)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56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2 koppelvlakken: berichtverkeer met Digikoppeling &amp; SMTP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56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56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56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56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56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In aantocht 2013: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Openbaar Ministerie, gemeente Breda 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56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Later: iNUP 2015: alle gemeenten; OLO, opties: CIZ, CAK …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  <p:pic>
        <p:nvPicPr>
          <p:cNvPr id="2504" name="Picture 1" descr=""/>
          <p:cNvPicPr/>
          <p:nvPr/>
        </p:nvPicPr>
        <p:blipFill>
          <a:blip r:embed="rId1"/>
          <a:stretch/>
        </p:blipFill>
        <p:spPr>
          <a:xfrm>
            <a:off x="468360" y="2973240"/>
            <a:ext cx="849636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D8C671-4F4B-4AA7-8ED9-6DD89116E1B3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391C1B-90A6-4E98-86AD-6139986171F7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Lopende Zaken: werking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588600" y="2420640"/>
            <a:ext cx="80614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Afnemer/gemeente: 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wil bij start v/e zaak de zaakstatus posten bij MO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verifieert “account BSN beschikbaar”: profielservice MO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bij bevestiging: posten van zaakstatus in MO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indien Digikoppeling: ebMS-variant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foutmeldingen indien onbestelbaar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9452F9-1961-4609-8726-121D8F5CAEBC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E4E518-FE82-4C9D-90EC-36B27A4AE1AD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Lopende Zaken: werking(2)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588600" y="2492280"/>
            <a:ext cx="80614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Gebruiker/burger: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krijgt notitificatie MijnOverheid “nieuwe zaakstatus”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logt in bij MO en raadpleegt LZ-overzicht (op BSN)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optie: link naar MijnGemeente / Persoonlijk Dossier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indien SSO (e.i.): in zelfde DigiD-sessie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NB: eind Q2 overgang DigiD-midden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B206F0-2E60-4957-B79C-1A9A2A151979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F183DB-376D-4A56-AFEB-DEF46D264950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Lopende Zaken: werking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588600" y="2352600"/>
            <a:ext cx="806148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Afnemer/gemeente: 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wil bij start zaakstatus posten bij MO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verifieert “account BSN beschikbaar”: profielservice MO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bij bevestiging: posten van zaakstatus in MO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Gebruiker/burger: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krijgt notitificatie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logt in bij MO en raadpleegt LZ-overzicht (op BSN)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  <p:pic>
        <p:nvPicPr>
          <p:cNvPr id="2520" name="Afbeelding 6" descr="G:\Servicemanagement\MijnOverheid\6_Klantdocumentatie\3_Aansluitproces\3. Koppelvlakspecificaties\1. Architectuurplaten\berichtenstroomMO-publiek_v3.1.png"/>
          <p:cNvPicPr/>
          <p:nvPr/>
        </p:nvPicPr>
        <p:blipFill>
          <a:blip r:embed="rId1"/>
          <a:stretch/>
        </p:blipFill>
        <p:spPr>
          <a:xfrm>
            <a:off x="474840" y="657360"/>
            <a:ext cx="819432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4:32:00Z</dcterms:created>
  <dc:creator>Monique Dassen</dc:creator>
  <dc:description/>
  <dc:language>en-US</dc:language>
  <cp:lastModifiedBy>Peter Klaver</cp:lastModifiedBy>
  <cp:lastPrinted>2010-11-11T07:37:08Z</cp:lastPrinted>
  <dcterms:modified xsi:type="dcterms:W3CDTF">2013-02-06T13:17:20Z</dcterms:modified>
  <cp:revision>220</cp:revision>
  <dc:subject/>
  <dc:title>Dia 1</dc:title>
</cp:coreProperties>
</file>